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6F8-9959-4214-9E43-0BAB721F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CC6-3458-4E7C-913D-D420AF8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E13-C050-444C-8179-A839BD69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DA6-AFEF-43A9-B5A7-E266D79F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235-DF9E-4DF8-A3B5-4FDC3921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59A-0E08-41ED-BD3A-54C2DFB7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DD2-A265-4AD9-91DD-4073B88B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663-943E-423E-AF50-64895860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E5A-CEB3-48A4-9EFA-21778F3A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D8A-DE0C-48DD-9A63-FBE58FB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3F6-A270-48AD-A8DD-2E34AAE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A55-146B-41AB-A47E-B563B75C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E322-24AF-4351-A84A-C0C16D1B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3504960" cy="265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THE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PA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ARKET IN ATHENS - as it appeared in classical antiquity: wood engraving, 19th century."/>
          <p:cNvPicPr/>
          <p:nvPr/>
        </p:nvPicPr>
        <p:blipFill>
          <a:blip r:embed="rId2"/>
          <a:stretch/>
        </p:blipFill>
        <p:spPr>
          <a:xfrm>
            <a:off x="228600" y="3733920"/>
            <a:ext cx="4191120" cy="279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PARTAN WARRIORS - exercising in the dromos (racecourse). Line engraving, 19th century."/>
          <p:cNvPicPr/>
          <p:nvPr/>
        </p:nvPicPr>
        <p:blipFill>
          <a:blip r:embed="rId3"/>
          <a:stretch/>
        </p:blipFill>
        <p:spPr>
          <a:xfrm>
            <a:off x="5029200" y="3733920"/>
            <a:ext cx="3809880" cy="281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52280" y="1295280"/>
            <a:ext cx="472464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ligarchy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06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arming an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litary - - - communities around them provided trade and c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althy receiv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ved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arned reading, writing, poetry, math, music, dance, and athl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 age 18 served 2 years in the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fter service were given a spear and shield and only called out at wa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rls learned from Mother’s crafts and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ys lived in bar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aught to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phasized physic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ict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ept on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ore light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18 in Army fu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30 full citizen and could 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rls got a strong physical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808280" cy="1073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08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THER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ity-state had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dn’t fear slave re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vish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rge government projects to benefi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eared slave re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mple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luxury goods/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5105520"/>
            <a:ext cx="18306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38:01Z</dcterms:created>
  <dc:creator>gehadde</dc:creator>
  <dc:description/>
  <dc:language>en-US</dc:language>
  <cp:lastModifiedBy>gehadde</cp:lastModifiedBy>
  <dcterms:modified xsi:type="dcterms:W3CDTF">2012-05-03T17:14:20Z</dcterms:modified>
  <cp:revision>21</cp:revision>
  <dc:subject/>
  <dc:title>Warm-Up: #</dc:title>
</cp:coreProperties>
</file>